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DB3DB-9840-41C2-9A1A-3FAB43072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DC1DB-DEAE-4775-895E-538F6F178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E2BF4-DB92-49F3-9025-E2A576BAA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0B626-ACD9-4D39-BA62-B0CA66113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394DB-D9D1-4DD8-9589-F97E221E4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6DE9A-0CB6-4923-ACCA-64FA77D9B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CCE2E-4B9A-4741-880B-4BF6EF91A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54979-833C-4247-9F1C-D167F1746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0AC61-0BDA-475F-9D2A-BF2FC1B53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42DD0-22B2-4EE4-986B-6E4FD64A7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B5D38-16AD-455E-A9AB-263EFF922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2711B-C83F-4548-9CBF-EBEB45A7E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CEBC2-37A0-4766-A243-812B3A62A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709BB-3AB5-466B-8705-65B0DEE09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E6857-5D81-4558-A5EA-20433B12A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106CB-2F76-4864-B1E7-467CB7A73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D8930-891B-448D-B81D-4B0077AE2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C1D71-AFB1-4D30-B3FD-B2803D245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3831D-28A0-4858-A996-CB668F09A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B062E-FD7D-4DD3-A81F-53FA7177C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30F77-3443-4838-97DE-7E53EC29A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100E0-17C6-4284-B5E7-516C0A20C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8307F-5611-42D5-8B65-FEF980EC1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C46AA-CD01-4C72-BA1B-EC67CE11C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95CF1-51E7-44A7-871C-D34CCC877D2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9A4C9-4C4A-4CAB-8E64-11522CFAECD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shielded and Shielded 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shielded Twisted Pair (U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inary telephone wi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st to inst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ers from external EM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ielded Twisted Pair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al braid or sheathing that reduces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er to handle (thick, heav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TP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grade found in most off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of 7.5 cm to 10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20 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ly pre-installed in new office buildin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0.6 cm to 0.85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ar End Crosstal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of signal from one pair to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takes place when transmit signal entering the link couples back to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.e. near transmitted signal is picked up by near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20412" r="0" b="47008"/>
          <a:stretch/>
        </p:blipFill>
        <p:spPr>
          <a:xfrm>
            <a:off x="685800" y="1676520"/>
            <a:ext cx="77724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versatile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 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iel to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ble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10,000 voice calls simultane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ing replaced by fiber opt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distance computer systems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few 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if higher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5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1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for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60246" r="0" b="10168"/>
          <a:stretch/>
        </p:blipFill>
        <p:spPr>
          <a:xfrm>
            <a:off x="533520" y="1973160"/>
            <a:ext cx="838188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Benef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s of hundreds of G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ize &amp; we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attenu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magnetic iso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repeater spa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s of km at le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-haul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ropolitan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ural exchange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 as wave guide for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5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Hz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ions of infrared and visible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ght Emitting Diode (LE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r operating temp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st lon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jection Laser Diode (IL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velength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ided - wi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- wir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and quality determined by medium and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uided, the medium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nguided, the bandwidth produced by the antenna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concerns are data rate an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Transmission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9525"/>
          <a:stretch/>
        </p:blipFill>
        <p:spPr>
          <a:xfrm>
            <a:off x="609480" y="1679400"/>
            <a:ext cx="7925040" cy="51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and reception via anten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eful alignmen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spreads in all dir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received by many antenna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GHz to 40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wa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ly 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tell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0MHz to 1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2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restrial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bolic dis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haul tele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er frequencies give higher 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tellite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is rela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receives on one frequency, amplifies or repeats signal and transmits on anoth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geo-stationary or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ight of 35,784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 business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Radi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M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HF and VHF 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ffers from multipath 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l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ra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e noncoherent infrared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 (or reflec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ed by wa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V remote control, IRD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Fact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bandwidth gives high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impair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receiv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guided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receivers (multi-point) introduce more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magnetic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7401"/>
          <a:stretch/>
        </p:blipFill>
        <p:spPr>
          <a:xfrm>
            <a:off x="762120" y="1676520"/>
            <a:ext cx="761976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uided 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rcRect l="2349" t="0" r="16196" b="81868"/>
          <a:stretch/>
        </p:blipFill>
        <p:spPr>
          <a:xfrm>
            <a:off x="380880" y="1752480"/>
            <a:ext cx="8305920" cy="2448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comm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house and local exchange (subscriber loo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private branch exchange (PB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local area networks (LA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Mbps or 10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work wi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5km to 6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ither analog or digita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2km or 3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bandwidth (1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ata rate (100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interference and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5T12:24:05Z</dcterms:created>
  <dc:creator>Adrian J Pullin</dc:creator>
  <dc:description/>
  <dc:language>en-US</dc:language>
  <cp:lastModifiedBy>Adrian J Pullin</cp:lastModifiedBy>
  <dcterms:modified xsi:type="dcterms:W3CDTF">1999-10-13T14:41:49Z</dcterms:modified>
  <cp:revision>26</cp:revision>
  <dc:subject/>
  <dc:title>William Stallings Data and Computer Communications</dc:title>
</cp:coreProperties>
</file>